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3A0DA-A17B-4AA9-994D-1F2573DA2A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2AADC-9095-4D7C-8D67-98EF29DC16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3744F-7FD8-4687-95CA-ED6FD33C1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498ED-4E9E-4A35-98BE-715196209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719BB-6F83-4335-AAD1-0897E9F68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37DB3-86E4-4A42-850A-051A32A27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AED21-20D9-4881-BEFE-48FC7936C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435AC-4A9B-4C47-895C-7D097C1C1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580EB-2197-4CE7-9361-43230E7DA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AE7C0-914D-42A9-A4E3-6514E7FCC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34F4E-D4AB-4293-B581-28F81BD55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96C54-584D-4FD1-BD18-FF4CE2878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34760-D512-4889-9C45-037F05E0A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9E229-504D-44BE-BBB4-D310B368D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22916-05C3-48F5-814F-F432FA99B3D3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D13DF-8AFE-4606-B695-99EAF875ED9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copaparazzi.ro/" TargetMode="External"/><Relationship Id="rId3" Type="http://schemas.openxmlformats.org/officeDocument/2006/relationships/image" Target="../media/image3.pn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guerillaverde.ro/" TargetMode="External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facebook.com/people/Guerilla-Verde/100000440101230" TargetMode="External"/><Relationship Id="rId3" Type="http://schemas.openxmlformats.org/officeDocument/2006/relationships/hyperlink" Target="http://twitter.com/GuerillaVerde" TargetMode="External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http://www.slideshare.net/GuerillaVerde/guerilla-verde-iii-interpretare-chestionare" TargetMode="Externa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hyperlink" Target="http://www.youtube.com/watch?v=wnjx6KETmi4" TargetMode="External"/><Relationship Id="rId8" Type="http://schemas.openxmlformats.org/officeDocument/2006/relationships/hyperlink" Target="file:///C:/Documents%20and%20Settings/Ileana/Local%20Settings/Temporary%20Internet%20Files/Content.Outlook/4WFIP1GS/noimpactman.typepad.com" TargetMode="External"/><Relationship Id="rId9" Type="http://schemas.openxmlformats.org/officeDocument/2006/relationships/hyperlink" Target="http://www.youtube.com/watch?v=ENcV5zeMILs" TargetMode="External"/><Relationship Id="rId10" Type="http://schemas.openxmlformats.org/officeDocument/2006/relationships/hyperlink" Target="http://www.youtube.com/watch?v=G8IozVfph7I" TargetMode="External"/><Relationship Id="rId11" Type="http://schemas.openxmlformats.org/officeDocument/2006/relationships/image" Target="../media/image3.png"/><Relationship Id="rId1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2143080" y="928800"/>
            <a:ext cx="6757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Calibri"/>
              </a:rPr>
              <a:t>prima caravana educationala  de film cu mesaj ecologic</a:t>
            </a: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 din Romani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alibri"/>
              </a:rPr>
              <a:t>februarie -  mai 2013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5" descr="siglaguerilla.jpg"/>
          <p:cNvPicPr/>
          <p:nvPr/>
        </p:nvPicPr>
        <p:blipFill>
          <a:blip r:embed="rId2"/>
          <a:stretch/>
        </p:blipFill>
        <p:spPr>
          <a:xfrm>
            <a:off x="2857680" y="2286000"/>
            <a:ext cx="4092480" cy="11066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logo"/>
          <p:cNvPicPr/>
          <p:nvPr/>
        </p:nvPicPr>
        <p:blipFill>
          <a:blip r:embed="rId3"/>
          <a:stretch/>
        </p:blipFill>
        <p:spPr>
          <a:xfrm>
            <a:off x="8244000" y="6300720"/>
            <a:ext cx="900000" cy="5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28880" y="213840"/>
            <a:ext cx="6757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Concurs foto – video </a:t>
            </a:r>
            <a:br>
              <a:rPr sz="2800"/>
            </a:b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 in cadrul </a:t>
            </a:r>
            <a:r>
              <a:rPr b="0" i="1" lang="fr-CA" sz="2800" spc="-1" strike="noStrike">
                <a:solidFill>
                  <a:srgbClr val="000000"/>
                </a:solidFill>
                <a:latin typeface="Calibri"/>
              </a:rPr>
              <a:t>Guerilla Ver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000160" y="1356840"/>
            <a:ext cx="675792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Calibri"/>
                <a:ea typeface="Arial"/>
              </a:rPr>
              <a:t>EcoPaparazzi este un concurs si o platforma de comunicare pentru toti cei interesati de ecologie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Calibri"/>
                <a:ea typeface="Arial"/>
              </a:rPr>
              <a:t>Concursul foto - video de "politie verde a bunului simt" se adreseaza tinerilor si nu numai. Se desfasoara in fiecare luna pe </a:t>
            </a:r>
            <a:r>
              <a:rPr b="0" lang="ro-RO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www.ecopaparazzi.ro</a:t>
            </a:r>
            <a:r>
              <a:rPr b="0" lang="ro-RO" sz="1600" spc="-1" strike="noStrike">
                <a:solidFill>
                  <a:srgbClr val="000000"/>
                </a:solidFill>
                <a:latin typeface="Calibri"/>
                <a:ea typeface="Arial"/>
              </a:rPr>
              <a:t>. Pot participa fotografii sau filmulete care reflecta modul in care comunitatile locale respecta - sau nu - mediul inconjurator. Se poate inscrie oricine, indiferent de varsta sau localitatea de provenienta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Calibri"/>
                <a:ea typeface="Arial"/>
              </a:rPr>
              <a:t>La finalul fiecarei editii a concursului, organizatorii vor depune sesizari privind una sau mai multe din problemele semnalate de participantii la concurs catre autoritatle competente. Pe site-ul www.ecopaparazzi.ro va putea fi urmarit in ce stadiu se afla respectivele sesizari – daca au primit un raspuns din partea autoritatilor, daca au fost solutionate etc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Calibri"/>
                <a:ea typeface="Arial"/>
              </a:rPr>
              <a:t>Platforma de comunicare a aparut ca urmare a interesului pe care l-au manifestat cei care au participat la concurs de-a lungul timpului. EcoPaparazzi.ro urmareste sa ofere tuturor celor care il acceseaza o imagine in timp real a problemelor de mediu din Romania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Calibri"/>
                <a:ea typeface="Arial"/>
              </a:rPr>
              <a:t>Obiectivul pe termen lung este construirea unei comunitati cu o voce puternica, ce va putea sanctiona relele practici si se va implica in actiuni practice pentru protectia mediului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2" descr="logo"/>
          <p:cNvPicPr/>
          <p:nvPr/>
        </p:nvPicPr>
        <p:blipFill>
          <a:blip r:embed="rId3"/>
          <a:stretch/>
        </p:blipFill>
        <p:spPr>
          <a:xfrm>
            <a:off x="8244000" y="6300720"/>
            <a:ext cx="900000" cy="557280"/>
          </a:xfrm>
          <a:prstGeom prst="rect">
            <a:avLst/>
          </a:prstGeom>
          <a:ln w="0">
            <a:noFill/>
          </a:ln>
        </p:spPr>
      </p:pic>
      <p:pic>
        <p:nvPicPr>
          <p:cNvPr id="103" name="Content Placeholder 3" descr="ecopaparazii aparat foto.jpg"/>
          <p:cNvPicPr/>
          <p:nvPr/>
        </p:nvPicPr>
        <p:blipFill>
          <a:blip r:embed="rId4"/>
          <a:stretch/>
        </p:blipFill>
        <p:spPr>
          <a:xfrm>
            <a:off x="5857920" y="214200"/>
            <a:ext cx="3105000" cy="90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28880" y="274320"/>
            <a:ext cx="6757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600" spc="-1" strike="noStrike">
                <a:solidFill>
                  <a:srgbClr val="000000"/>
                </a:solidFill>
                <a:latin typeface="Calibri"/>
              </a:rPr>
              <a:t>Contac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2143080" y="1643040"/>
            <a:ext cx="6757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alibri"/>
              </a:rPr>
              <a:t>Nicoleta Tal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Managing Direct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Media Image Factory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alibri"/>
              </a:rPr>
              <a:t>e-mail</a:t>
            </a: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: nicoleta.talpes@imagefactory.r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alibri"/>
              </a:rPr>
              <a:t>cell</a:t>
            </a: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: 0724 314 045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alibri"/>
              </a:rPr>
              <a:t>ph/fax</a:t>
            </a: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: 031.10. 74.17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contact@guerillaverde.ro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www.guerillaverde.ro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www.imagefactory.ro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c0504d"/>
                </a:solidFill>
                <a:latin typeface="Calibri"/>
              </a:rPr>
              <a:t>Comment &amp; Like pe 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Facebook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Retweet: </a:t>
            </a:r>
            <a:r>
              <a:rPr b="0" lang="fr-FR" sz="1600" spc="-1" strike="noStrike">
                <a:solidFill>
                  <a:srgbClr val="c0504d"/>
                </a:solidFill>
                <a:latin typeface="Calibri"/>
              </a:rPr>
              <a:t>@GuerillaVerd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10" descr="siglaguerilla.jpg"/>
          <p:cNvPicPr/>
          <p:nvPr/>
        </p:nvPicPr>
        <p:blipFill>
          <a:blip r:embed="rId2"/>
          <a:stretch/>
        </p:blipFill>
        <p:spPr>
          <a:xfrm>
            <a:off x="8215200" y="0"/>
            <a:ext cx="928800" cy="3571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2" descr="logo"/>
          <p:cNvPicPr/>
          <p:nvPr/>
        </p:nvPicPr>
        <p:blipFill>
          <a:blip r:embed="rId3"/>
          <a:stretch/>
        </p:blipFill>
        <p:spPr>
          <a:xfrm>
            <a:off x="8244000" y="6300720"/>
            <a:ext cx="900000" cy="5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928880" y="274320"/>
            <a:ext cx="6757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Calibri"/>
              </a:rPr>
              <a:t>Agend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2143080" y="1643040"/>
            <a:ext cx="6757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oncep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Parteneri.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Testimoniale partener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0000"/>
                </a:solidFill>
                <a:latin typeface="Calibri"/>
              </a:rPr>
              <a:t>Guerilla Verde –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ani, </a:t>
            </a: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6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editi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Identitate vizual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0000"/>
                </a:solidFill>
                <a:latin typeface="Calibri"/>
              </a:rPr>
              <a:t>Guerilla Verde </a:t>
            </a: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20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Traseu si fil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Ecopaparazz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ontac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12" descr="siglaguerilla.jpg"/>
          <p:cNvPicPr/>
          <p:nvPr/>
        </p:nvPicPr>
        <p:blipFill>
          <a:blip r:embed="rId2"/>
          <a:stretch/>
        </p:blipFill>
        <p:spPr>
          <a:xfrm>
            <a:off x="8215200" y="71280"/>
            <a:ext cx="928800" cy="3574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logo"/>
          <p:cNvPicPr/>
          <p:nvPr/>
        </p:nvPicPr>
        <p:blipFill>
          <a:blip r:embed="rId3"/>
          <a:stretch/>
        </p:blipFill>
        <p:spPr>
          <a:xfrm>
            <a:off x="8244000" y="6300720"/>
            <a:ext cx="900000" cy="5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28880" y="213840"/>
            <a:ext cx="6757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fr-CA" sz="2800" spc="-1" strike="noStrike">
                <a:solidFill>
                  <a:srgbClr val="000000"/>
                </a:solidFill>
                <a:latin typeface="Calibri"/>
              </a:rPr>
              <a:t>onceptul 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fr-CA" sz="2800" spc="-1" strike="noStrike">
                <a:solidFill>
                  <a:srgbClr val="000000"/>
                </a:solidFill>
                <a:latin typeface="Calibri"/>
              </a:rPr>
              <a:t>Guerilla Ver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2000160" y="1356840"/>
            <a:ext cx="675792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000000"/>
                </a:solidFill>
                <a:latin typeface="Calibri"/>
              </a:rPr>
              <a:t>Guerilla Verde</a:t>
            </a:r>
            <a:r>
              <a:rPr b="0" i="1" lang="ro-RO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o-RO" sz="16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guerillaverde.ro</a:t>
            </a: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 )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 face parte dintr-un proiect mai amplu, denumit generic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</a:rPr>
              <a:t>BETI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(Better Education Through Innovation), care isi propune sa contribuie la educatia generatiei de maine prin intermediul filmului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Guerilla Verde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este prima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aravana educationala de filme cu mesaj ecologic, initiativa Media Image Factory</a:t>
            </a: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, agentie de comunicare specializata in dezvoltarea de proiecte social-cu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l</a:t>
            </a: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tur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Proiectul se deruleaza sub egida Ministerul Mediului, Ministeril Educatiei si  cu sprijinul primariilor oraselor gazda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Calibri"/>
              </a:rPr>
              <a:t>NOU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ticipantii la proiectii care vor aduce carti/filme/articole cu teme eco vor primi bilete la tombola, unde vor avea ocazia de a castiga premii verzi (de ex. biciclete, articole sportive etc)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rearea si dezvoltarea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Clubului Guerilla Ve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rde, format din cadre didactic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rearea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blogului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, unde va fi tinut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jurnalul carav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anei si vor fi posturi in egala masura ale organizatorilor, dar si ale voluntarilor, ale profesorilor si ale elevilo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13" descr="siglaguerilla.jpg"/>
          <p:cNvPicPr/>
          <p:nvPr/>
        </p:nvPicPr>
        <p:blipFill>
          <a:blip r:embed="rId3"/>
          <a:stretch/>
        </p:blipFill>
        <p:spPr>
          <a:xfrm>
            <a:off x="8215200" y="0"/>
            <a:ext cx="928800" cy="357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" descr="logo"/>
          <p:cNvPicPr/>
          <p:nvPr/>
        </p:nvPicPr>
        <p:blipFill>
          <a:blip r:embed="rId4"/>
          <a:stretch/>
        </p:blipFill>
        <p:spPr>
          <a:xfrm>
            <a:off x="8244000" y="6300720"/>
            <a:ext cx="900000" cy="5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itre 1"/>
          <p:cNvSpPr/>
          <p:nvPr/>
        </p:nvSpPr>
        <p:spPr>
          <a:xfrm>
            <a:off x="1357200" y="428760"/>
            <a:ext cx="6758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ro-RO" sz="1800" spc="-1" strike="noStrike">
                <a:solidFill>
                  <a:srgbClr val="000000"/>
                </a:solidFill>
                <a:latin typeface="Calibri"/>
              </a:rPr>
              <a:t>Partener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Footer Placeholder 11"/>
          <p:cNvSpPr/>
          <p:nvPr/>
        </p:nvSpPr>
        <p:spPr>
          <a:xfrm>
            <a:off x="5105520" y="6033960"/>
            <a:ext cx="28954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98989"/>
                </a:solidFill>
                <a:latin typeface="Century"/>
              </a:rPr>
              <a:t>                      </a:t>
            </a:r>
            <a:r>
              <a:rPr b="0" lang="en-US" sz="1200" spc="-1" strike="noStrike">
                <a:solidFill>
                  <a:srgbClr val="898989"/>
                </a:solidFill>
                <a:latin typeface="Century"/>
              </a:rPr>
              <a:t>un proiect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0" descr="PARTENERI GV.png"/>
          <p:cNvPicPr/>
          <p:nvPr/>
        </p:nvPicPr>
        <p:blipFill>
          <a:blip r:embed="rId2"/>
          <a:stretch/>
        </p:blipFill>
        <p:spPr>
          <a:xfrm>
            <a:off x="3286080" y="-4680"/>
            <a:ext cx="5143680" cy="68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itre 1"/>
          <p:cNvSpPr/>
          <p:nvPr/>
        </p:nvSpPr>
        <p:spPr>
          <a:xfrm>
            <a:off x="1908000" y="333360"/>
            <a:ext cx="6758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Ce spun partenerii nostri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12" descr="siglaguerilla.jpg"/>
          <p:cNvPicPr/>
          <p:nvPr/>
        </p:nvPicPr>
        <p:blipFill>
          <a:blip r:embed="rId2"/>
          <a:stretch/>
        </p:blipFill>
        <p:spPr>
          <a:xfrm>
            <a:off x="8215200" y="0"/>
            <a:ext cx="928800" cy="3571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 txBox="1"/>
          <p:nvPr/>
        </p:nvSpPr>
        <p:spPr>
          <a:xfrm>
            <a:off x="1643040" y="1500120"/>
            <a:ext cx="3571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it-IT" sz="14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it-IT" sz="1400" spc="-1" strike="noStrike">
                <a:solidFill>
                  <a:srgbClr val="000000"/>
                </a:solidFill>
                <a:latin typeface="Calibri"/>
              </a:rPr>
              <a:t>Proiectul </a:t>
            </a:r>
            <a:r>
              <a:rPr b="0" i="1" lang="it-IT" sz="1400" spc="-1" strike="noStrike">
                <a:solidFill>
                  <a:srgbClr val="000000"/>
                </a:solidFill>
                <a:latin typeface="Calibri"/>
              </a:rPr>
              <a:t>Guerilla Verde</a:t>
            </a:r>
            <a:r>
              <a:rPr b="0" lang="it-IT" sz="1400" spc="-1" strike="noStrike">
                <a:solidFill>
                  <a:srgbClr val="000000"/>
                </a:solidFill>
                <a:latin typeface="Calibri"/>
              </a:rPr>
              <a:t> se potriveste perfect cu misiunea UPC de Responsabilitate Sociala, aceea de a investi in educatia copiilor pentru a-i ajuta sa isi construiasca un viitor mai bun. Prin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implicarea sa in toate aspectele care privesc copiii de astazi, inclusiv constientizarea mediului inconjurator, UPC Romania </a:t>
            </a:r>
            <a:r>
              <a:rPr b="0" lang="it-IT" sz="1400" spc="-1" strike="noStrike">
                <a:solidFill>
                  <a:srgbClr val="000000"/>
                </a:solidFill>
                <a:latin typeface="Calibri"/>
              </a:rPr>
              <a:t>doreste sa trasforme mediul educational intr-un colt verde de care sa se poata bucura. </a:t>
            </a: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Guerilla Verde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, initiativa educativa si ecologica inedita</a:t>
            </a:r>
            <a:r>
              <a:rPr b="0" lang="it-IT" sz="1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reprezinta o continuare naturala a misiunii noastre, unde ne unim forţele cu partenerii nostrii de proiect pentru o cauza buna.” declara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Ariana Badin – PR &amp; Communication Manager UPC Romani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Content Placeholder 2"/>
          <p:cNvSpPr/>
          <p:nvPr/>
        </p:nvSpPr>
        <p:spPr>
          <a:xfrm>
            <a:off x="5315040" y="1285920"/>
            <a:ext cx="3257640" cy="378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Tetra Pak este lider mondial in randul companiilor furnizoare de soluţii de procesare şi ambalare a alimentelor lichide. </a:t>
            </a:r>
            <a:r>
              <a:rPr b="0" lang="it-IT" sz="1400" spc="-1" strike="noStrike">
                <a:solidFill>
                  <a:srgbClr val="000000"/>
                </a:solidFill>
                <a:latin typeface="Calibri"/>
              </a:rPr>
              <a:t>Ne asumam cu responsabilitate aceasta pozitie, generand crestere in armonie cu principiile sustenabilitatii. Motto-ul nostru “PROTEJEAZA CE E BUN” reflectă viziunea noastră de a oferi alimente sigure şi disponibile oriunde, dar si actiuni de educare in spiritul protectiei mediului. Credem ca numai deprinderea de a colecta selectiv poate contribui la o mai buna gestionare a resurselor planetei. </a:t>
            </a:r>
            <a:r>
              <a:rPr b="0" i="1" lang="it-IT" sz="1400" spc="-1" strike="noStrike">
                <a:solidFill>
                  <a:srgbClr val="000000"/>
                </a:solidFill>
                <a:latin typeface="Calibri"/>
              </a:rPr>
              <a:t>Guerilla Verde</a:t>
            </a:r>
            <a:r>
              <a:rPr b="0" lang="it-IT" sz="1400" spc="-1" strike="noStrike">
                <a:solidFill>
                  <a:srgbClr val="000000"/>
                </a:solidFill>
                <a:latin typeface="Calibri"/>
              </a:rPr>
              <a:t> ne ajuta sa punem in practica motto-ul nostru, prin formarea unei bune conduite sociale in randul tinerei generatii.”  declara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Daniela Cirmaciu – Responsabil Comunicare si Mediu, Tetra Pak South Eastern Euro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2" descr="logo"/>
          <p:cNvPicPr/>
          <p:nvPr/>
        </p:nvPicPr>
        <p:blipFill>
          <a:blip r:embed="rId3"/>
          <a:stretch/>
        </p:blipFill>
        <p:spPr>
          <a:xfrm>
            <a:off x="8244000" y="6300720"/>
            <a:ext cx="900000" cy="5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28880" y="274320"/>
            <a:ext cx="6757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Calibri"/>
              </a:rPr>
              <a:t>Identitate vizual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2357280" y="5714640"/>
            <a:ext cx="6429600" cy="42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fisele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Guerilla Verde –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I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-a si a 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VI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-a editi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7" descr=""/>
          <p:cNvPicPr/>
          <p:nvPr/>
        </p:nvPicPr>
        <p:blipFill>
          <a:blip r:embed="rId2"/>
          <a:stretch/>
        </p:blipFill>
        <p:spPr>
          <a:xfrm>
            <a:off x="2071800" y="1071720"/>
            <a:ext cx="3095640" cy="4421160"/>
          </a:xfrm>
          <a:prstGeom prst="rect">
            <a:avLst/>
          </a:prstGeom>
          <a:ln w="9360">
            <a:solidFill>
              <a:srgbClr val="000000"/>
            </a:solidFill>
            <a:prstDash val="sysDot"/>
            <a:miter/>
          </a:ln>
        </p:spPr>
      </p:pic>
      <p:pic>
        <p:nvPicPr>
          <p:cNvPr id="70" name="Picture 10" descr="siglaguerilla.jpg"/>
          <p:cNvPicPr/>
          <p:nvPr/>
        </p:nvPicPr>
        <p:blipFill>
          <a:blip r:embed="rId3"/>
          <a:stretch/>
        </p:blipFill>
        <p:spPr>
          <a:xfrm>
            <a:off x="8215200" y="0"/>
            <a:ext cx="928800" cy="3571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" descr="logo"/>
          <p:cNvPicPr/>
          <p:nvPr/>
        </p:nvPicPr>
        <p:blipFill>
          <a:blip r:embed="rId4"/>
          <a:stretch/>
        </p:blipFill>
        <p:spPr>
          <a:xfrm>
            <a:off x="8244000" y="6300720"/>
            <a:ext cx="900000" cy="5572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1" descr="AFIS A3 Guerilla.jpg"/>
          <p:cNvPicPr/>
          <p:nvPr/>
        </p:nvPicPr>
        <p:blipFill>
          <a:blip r:embed="rId5"/>
          <a:stretch/>
        </p:blipFill>
        <p:spPr>
          <a:xfrm>
            <a:off x="5500800" y="1214280"/>
            <a:ext cx="3000240" cy="42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928880" y="274320"/>
            <a:ext cx="6757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2800" spc="-1" strike="noStrike">
                <a:solidFill>
                  <a:srgbClr val="000000"/>
                </a:solidFill>
                <a:latin typeface="Calibri"/>
              </a:rPr>
              <a:t>Guerilla Verde </a:t>
            </a:r>
            <a:r>
              <a:rPr b="0" lang="fr-CA" sz="28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 dupa 3 ani de la lansa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2214720" y="1643040"/>
            <a:ext cx="6757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6 editii organizate in cei 3 ani de la lansa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14. 100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 de participanti - target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tineri, elevi, autoritati, presa, partener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8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filme proiectate, avand mesaj ecologic educational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100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 scoli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30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 licee si  14 universitati din toata ta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20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de orase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35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.000 </a:t>
            </a: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materiale informative distribuit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152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 parteneri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0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00 Facebook friend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550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aparitii media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(print, online, radio, TV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www.guerillaverde.ro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FaceBook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Twitt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8" descr="siglaguerilla.jpg"/>
          <p:cNvPicPr/>
          <p:nvPr/>
        </p:nvPicPr>
        <p:blipFill>
          <a:blip r:embed="rId4"/>
          <a:stretch/>
        </p:blipFill>
        <p:spPr>
          <a:xfrm>
            <a:off x="8001000" y="0"/>
            <a:ext cx="1143000" cy="4395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" descr="logo"/>
          <p:cNvPicPr/>
          <p:nvPr/>
        </p:nvPicPr>
        <p:blipFill>
          <a:blip r:embed="rId5"/>
          <a:stretch/>
        </p:blipFill>
        <p:spPr>
          <a:xfrm>
            <a:off x="8244000" y="6300720"/>
            <a:ext cx="900000" cy="5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itre 1"/>
          <p:cNvSpPr/>
          <p:nvPr/>
        </p:nvSpPr>
        <p:spPr>
          <a:xfrm>
            <a:off x="1908000" y="333360"/>
            <a:ext cx="6758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2800" spc="-1" strike="noStrike">
                <a:solidFill>
                  <a:srgbClr val="000000"/>
                </a:solidFill>
                <a:latin typeface="Calibri"/>
              </a:rPr>
              <a:t>Guerilla Verde 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20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10" descr="siglaguerilla.jpg"/>
          <p:cNvPicPr/>
          <p:nvPr/>
        </p:nvPicPr>
        <p:blipFill>
          <a:blip r:embed="rId2"/>
          <a:stretch/>
        </p:blipFill>
        <p:spPr>
          <a:xfrm>
            <a:off x="8215200" y="0"/>
            <a:ext cx="928800" cy="3571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 txBox="1"/>
          <p:nvPr/>
        </p:nvSpPr>
        <p:spPr>
          <a:xfrm>
            <a:off x="2143080" y="1285560"/>
            <a:ext cx="675792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Perioada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ro-RO" sz="1600" spc="-1" strike="noStrike">
                <a:solidFill>
                  <a:srgbClr val="000000"/>
                </a:solidFill>
                <a:latin typeface="Calibri"/>
              </a:rPr>
              <a:t>februarie  – mai 2013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Obiectiv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: determinarea tinerilor sa aiba initiative concrete pentru protectia mediului. Invitatia de participare la proiectiile de filme cu mesaj ecologic oferite de organizatori reprezinta punctul de pornire in acest sens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Desfasurare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: fiecare proiectie este insotita de dialogul dintre ONG-urile de mediu nationale si locale, care vor indruma tinerii catre un comportament ecologic corect si catre actiuni de voluntariat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Locatii: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unitatile de invatamant mediu si superior (scoli, licee, facultati)</a:t>
            </a: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 , sali de cinema sau sali improvizate.</a:t>
            </a:r>
            <a:r>
              <a:rPr b="1" lang="ro-RO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Accesul publicului este liber. </a:t>
            </a:r>
            <a:r>
              <a:rPr b="1" lang="ro-RO" sz="1600" spc="-1" strike="noStrike">
                <a:solidFill>
                  <a:srgbClr val="000000"/>
                </a:solidFill>
                <a:latin typeface="Calibri"/>
              </a:rPr>
              <a:t>In cadrul editiei din 2013 accesul publicului se va face in schimbul unei doze de aluminiu si/sau a unei baterii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Pe parcursul celei de-a treia editii a fost efectuat un sondaj privind</a:t>
            </a: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 comportamentul tinerilor fata de mediu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. Rezultatele </a:t>
            </a: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sondajul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unt disponibile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aici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2" descr="logo"/>
          <p:cNvPicPr/>
          <p:nvPr/>
        </p:nvPicPr>
        <p:blipFill>
          <a:blip r:embed="rId4"/>
          <a:stretch/>
        </p:blipFill>
        <p:spPr>
          <a:xfrm>
            <a:off x="8244000" y="6300720"/>
            <a:ext cx="900000" cy="5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928880" y="1356840"/>
            <a:ext cx="6378480" cy="101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6000"/>
          </a:bodyPr>
          <a:p>
            <a:pPr marL="191880" indent="-191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alibri"/>
              </a:rPr>
              <a:t>Traseu </a:t>
            </a: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caravana Guerilla Verde:  Bacau, Focsani, Buzau Ploiesti, Bucurest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91880" indent="-191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91880" indent="-191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alibri"/>
              </a:rPr>
              <a:t>Filme :  </a:t>
            </a: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vor fi proiectate filme care au legatura cu tipul de deseu aflat in discutie – dozele de aluminiu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91880" indent="-191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Printre filmele difuzate in editiile anterioare, se numara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15800" indent="-159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10" descr="siglaguerilla.jpg"/>
          <p:cNvPicPr/>
          <p:nvPr/>
        </p:nvPicPr>
        <p:blipFill>
          <a:blip r:embed="rId2"/>
          <a:stretch/>
        </p:blipFill>
        <p:spPr>
          <a:xfrm>
            <a:off x="8215200" y="0"/>
            <a:ext cx="928800" cy="3571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No-impact-man"/>
          <p:cNvPicPr/>
          <p:nvPr/>
        </p:nvPicPr>
        <p:blipFill>
          <a:blip r:embed="rId3"/>
          <a:stretch/>
        </p:blipFill>
        <p:spPr>
          <a:xfrm>
            <a:off x="2187720" y="3286080"/>
            <a:ext cx="1527120" cy="222876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1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1"/>
          <p:cNvSpPr/>
          <p:nvPr/>
        </p:nvSpPr>
        <p:spPr>
          <a:xfrm>
            <a:off x="4452480" y="2430000"/>
            <a:ext cx="238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548dd4"/>
                </a:solidFill>
                <a:latin typeface="Calibri"/>
                <a:ea typeface="Times New Roman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" descr="An Inconvenient Truth.jpg"/>
          <p:cNvPicPr/>
          <p:nvPr/>
        </p:nvPicPr>
        <p:blipFill>
          <a:blip r:embed="rId4"/>
          <a:stretch/>
        </p:blipFill>
        <p:spPr>
          <a:xfrm>
            <a:off x="4000680" y="3429000"/>
            <a:ext cx="1357200" cy="19288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The 11th Hour.jpg"/>
          <p:cNvPicPr/>
          <p:nvPr/>
        </p:nvPicPr>
        <p:blipFill>
          <a:blip r:embed="rId5"/>
          <a:stretch/>
        </p:blipFill>
        <p:spPr>
          <a:xfrm>
            <a:off x="5572080" y="3357720"/>
            <a:ext cx="1285920" cy="20620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3" descr="Home.jpg"/>
          <p:cNvPicPr/>
          <p:nvPr/>
        </p:nvPicPr>
        <p:blipFill>
          <a:blip r:embed="rId6"/>
          <a:stretch/>
        </p:blipFill>
        <p:spPr>
          <a:xfrm>
            <a:off x="7120080" y="3357720"/>
            <a:ext cx="1380960" cy="208728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1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4438080" y="2696760"/>
            <a:ext cx="267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4438080" y="5058720"/>
            <a:ext cx="267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4438080" y="7421040"/>
            <a:ext cx="267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0" y="9896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0"/>
          <p:cNvSpPr/>
          <p:nvPr/>
        </p:nvSpPr>
        <p:spPr>
          <a:xfrm>
            <a:off x="3952800" y="5429160"/>
            <a:ext cx="1652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An Inconvenient Thru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1"/>
          <p:cNvSpPr/>
          <p:nvPr/>
        </p:nvSpPr>
        <p:spPr>
          <a:xfrm>
            <a:off x="2373480" y="5500800"/>
            <a:ext cx="114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No Impact M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2"/>
          <p:cNvSpPr/>
          <p:nvPr/>
        </p:nvSpPr>
        <p:spPr>
          <a:xfrm>
            <a:off x="5728320" y="5429160"/>
            <a:ext cx="107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The 11th Ho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3"/>
          <p:cNvSpPr/>
          <p:nvPr/>
        </p:nvSpPr>
        <p:spPr>
          <a:xfrm>
            <a:off x="7512840" y="5429160"/>
            <a:ext cx="587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 u="sng">
                <a:solidFill>
                  <a:srgbClr val="0000ff"/>
                </a:solidFill>
                <a:uFillTx/>
                <a:latin typeface="Arial"/>
                <a:hlinkClick r:id="rId10"/>
              </a:rPr>
              <a:t>H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2" descr="logo"/>
          <p:cNvPicPr/>
          <p:nvPr/>
        </p:nvPicPr>
        <p:blipFill>
          <a:blip r:embed="rId11"/>
          <a:stretch/>
        </p:blipFill>
        <p:spPr>
          <a:xfrm>
            <a:off x="8244000" y="6300720"/>
            <a:ext cx="900000" cy="557280"/>
          </a:xfrm>
          <a:prstGeom prst="rect">
            <a:avLst/>
          </a:prstGeom>
          <a:ln w="0">
            <a:noFill/>
          </a:ln>
        </p:spPr>
      </p:pic>
      <p:sp>
        <p:nvSpPr>
          <p:cNvPr id="99" name="Titre 1"/>
          <p:cNvSpPr/>
          <p:nvPr/>
        </p:nvSpPr>
        <p:spPr>
          <a:xfrm>
            <a:off x="1908000" y="333360"/>
            <a:ext cx="6758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2800" spc="-1" strike="noStrike">
                <a:solidFill>
                  <a:srgbClr val="000000"/>
                </a:solidFill>
                <a:latin typeface="Calibri"/>
              </a:rPr>
              <a:t>Guerilla Verde </a:t>
            </a:r>
            <a:r>
              <a:rPr b="0" i="1" lang="ro-RO" sz="2800" spc="-1" strike="noStrike">
                <a:solidFill>
                  <a:srgbClr val="000000"/>
                </a:solidFill>
                <a:latin typeface="Calibri"/>
              </a:rPr>
              <a:t>in 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20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1T19:52:38Z</dcterms:created>
  <dc:creator>Eric</dc:creator>
  <dc:description/>
  <dc:language>en-US</dc:language>
  <cp:lastModifiedBy>nic</cp:lastModifiedBy>
  <dcterms:modified xsi:type="dcterms:W3CDTF">2013-02-04T09:46:15Z</dcterms:modified>
  <cp:revision>328</cp:revision>
  <dc:subject/>
  <dc:title>PRESENTATION  NAME</dc:title>
</cp:coreProperties>
</file>